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E4E-A53B-4089-86B9-B9152D0C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C5F-C13C-4463-8A79-6D6DE1C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F6-7291-4E5E-8920-BDC82071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3E3-EEF3-4C6E-AA4D-7A4B508A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FDA-BF6E-4777-9C5C-5D48BBE6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67B-6CCD-4BD1-9266-15499CB2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5D6-86D0-4BCB-A202-E067D314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AA8-91B8-4A34-BDCF-00F5978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696-75DB-4602-BE43-BA86C6B8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58C-DFC0-4C39-B511-FF8C45B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44B-0134-4DBC-AA4D-C3147A4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1EC-56F4-46B5-9042-DCC4A14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6B02-DC50-4C5C-A76E-C3982A00BA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8 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t down bitch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you move again I'll beat the shit out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's a four year old boy lyin' dead with a slit throat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living room, ha-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rticle Kate returns to the run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ghtly humorous way of reporting a tragic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ing about a young successful woman who developed a dru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lerance for reformed drug laws are moving forward (DWI, D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titudes towards recreational drugs are based on three miscon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Attitudes Toward “Recreational”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 use usually leads to criminal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ugs usually lead to ad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adolescents are pressured to us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perception emerged that government had become too big and costly, and it’s role in the economy should be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obalization- employees were expected to do more with less, departments merged, perks reduced and benefits cut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shifted so that employees now expect to work harder and put in more hours than they did 20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this leads to a level of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-relate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 Related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ies have shown stress is more prevalent where mental pressure is persistent and the sense of personal control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system based on Western worldview; human body as a machine and illness as a breakdown in th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role of the medical personnel i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air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rst Nations and Inuit; human body is not a machine that can be fixed independently of a person’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parts of the patients life must be h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toring 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ysical, emotional, social and spiritual aspects of healing and promotes personal role i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ging Social Mores: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boriginal Health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al mores have changed in this regard because anthropologists have demonstrated that it is necessary to respect cultural differences among the population when designing health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iologists classify our behaviours into a number of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Folk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that a typical member of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usually practi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If a folway is violated the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ould still be accepted i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ehaviours regarded as essential to the welfare and survival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breaking a social more is not accept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oceity but with changing attitudes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view is slowly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hanging Social More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ocial 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’s Flokways and Social Mores have changed dramatically over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ill look at four areas in which our social mores have changed and how these changes affect our well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here is a growing tolerance for depections of violenc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Psychologists worry that much media programming designed for young people provide them with poor ro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tarts on Saturday morning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edia Awareness Network found that by the time most children are 12 they have seen up to  12 000 violent deaths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fenders of the programming ofte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t children recognize that it’s a cartoon and that it’s f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sychologists point out that violence is a learned behaviour and that early and continued exposure can condition children to act in viol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ular concern is directed at movie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anging Social Mores: Tolerance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inem- Love the Way You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 tired of the games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just want her back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know I'm a liar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she ever tries to fucking leave again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'mma tie her to the bed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set the house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Jason</cp:lastModifiedBy>
  <dcterms:modified xsi:type="dcterms:W3CDTF">2011-05-25T16:12:08Z</dcterms:modified>
  <cp:revision>14</cp:revision>
  <dc:subject/>
  <dc:title>Title</dc:title>
</cp:coreProperties>
</file>